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850-31C2-4E85-8084-09210CB7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AA0-4AD3-4783-8BBA-E4245879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B6DF-130D-40CE-9350-A837DBD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3C59E-11DE-46E6-94E8-6B968C76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5D8F6-A20A-49AE-8048-B9B2A9B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B9A13-9D44-433D-8F7A-D501126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EAAB7-7C0C-42BC-A309-F012A93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35651-5115-4521-926E-42E8287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0843-D3B4-46A1-86D7-6F8B2CC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26D8F-3856-4B14-8413-D7EF40BF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A3E60-E1AC-43EC-B7EE-9F0C89B1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A46AC-6FA6-4E27-A66D-4F4A009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621-5938-4B70-92B9-D6DC7FE1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AA808-5C83-4843-A7E8-93F8F6E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00158-0C72-427A-B085-3B10BB64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CFD0E-76CC-4BA9-9310-BEC8D5A1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1B663-9283-495D-9D00-FCDC018B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9B54-D831-440B-A636-E8330E2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E6F97-5AC5-4792-84EE-B694991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7EFA-9D62-46A6-B03C-38CDEA4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EE068-E201-444F-8752-7FEF98E9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042D9-9E33-4DE2-BDD7-FD62807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692D5-B781-47F5-8E7B-7C0BD6AA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DC5-A069-4585-8F05-1C76E369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3B02-208D-4856-8F48-87A8AFF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328A5-6B36-4A39-9BBD-DD0CE4C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EC63F-C535-4728-A817-F74C288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D8E5-FBD0-4601-9D54-A9559833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79C09-A682-445D-8B04-C7D2C21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86A85-5AA6-4A1B-96A3-362CDD8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8B079-DCD7-4236-810E-B2BD80C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C003-D490-4105-9320-692B37E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E555-DE6D-4BB7-B737-423FFDA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BAA40-D97A-4A9E-ADE6-3F6499D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39C1-0EDC-4BE0-B4C5-84BA09E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B3CBF-B985-423D-94A8-C8B9991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E09B-E573-404D-920D-65E4C2AD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285E6-2877-471A-B4F4-E2692FCF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D5A3-D0DB-42E1-BC70-E5F3F405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56782-08D1-40C3-9832-92385C16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F849C-D0D1-4E13-B858-C9158B4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7298F-8111-48E8-9F30-39280FD2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AF5BA-9F5B-42F5-8CAC-CEC1638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4AD31-9EF2-4AB4-8E2E-AE37D01D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CC7B-0423-4E3C-8272-316B85F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A1C9-A194-4989-8A76-E366253D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A8E9B-2BCF-4136-BB13-891F48ED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35910-0626-483C-88FA-C553D0F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36292-59EA-4E56-B3C5-70CE712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6A252-9F40-433E-A9D4-556A5D96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9B286-2C6B-447F-8F98-6B0CBCE3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969E3-1D09-4A6C-BC0F-55D0C9D3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1999A-257C-4EA4-A1A7-121BF72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1D8B9-E2EE-49CA-87A3-E8F073CC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55724-F13C-4202-8770-5676A77F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59394-7BA2-4B27-BB33-2CEA43CF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543C-AFE5-4EEE-A332-33FE15EA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5C82B-1FD0-46EA-91FD-B1F5A9C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603B8-3AEF-4D36-ADA2-795C4F9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C8FBF-AEB0-490E-A224-C1E4D88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539EA-6DE3-4FAE-B07C-80CDA856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13CF4-84F0-4903-BA74-8751AE38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68E16-8E8D-48DF-9555-2E39273E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B16EB-B310-4C93-8AA4-8978B946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888FB-6540-4AFF-8650-DCAC8843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D693F-40FC-427E-8AEE-7006A263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F3CBD6-500B-484B-8FDE-395E695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9FE-1752-4ACC-8883-A3C48C9A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F0444-671B-4F07-A063-5B7941A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02EE3-8250-483C-8E4E-B9F21A8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DA9F1-CDEA-4E7C-A4FE-23BF42F0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B5FA2-36A1-4660-B92B-1956CB4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0007C-A3FA-45EA-A097-5CE1318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CAEC3-48C6-4744-AA50-3C724F0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FB0AB-A595-497B-91E4-B6A63FA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D8645-83FB-48CE-B1F3-06F97AB4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AA73A-BCDA-4D14-B366-70D22707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FB226-551A-4950-85C4-8DAC354B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493D-3D19-47AE-A88D-07301F6F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D402E-729A-4DD3-8B88-7AD18400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125AB-EFD8-4968-A9CF-D7182FBF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30283-9612-4FAD-8406-45559723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48A09-B5D0-4815-8683-AC609A6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E09F3-2C61-42A0-AFB5-D914AD8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8E973-11A8-40E1-B7AB-AA12C5BB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A5DBB-7A69-4E9B-8E74-8BFF9AB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8555E-7A6F-4CAB-AA3D-70B0E13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92825-8BBB-4960-8544-B3BFA1A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5152D-6042-44FC-8441-DA6FF549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A5A-C045-4825-8F24-9DC612D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AAFD5-1E31-45A5-A30E-3A3D8B50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85F8B-3204-4302-8C71-8595ECBD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A964B-4096-4917-9785-31D6B6B4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4FB38-6421-4D60-BC5E-F1D0B8C1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5577D-2167-43A3-BAEF-A9369F8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6CCF3-21C4-4DB6-8E4F-EA228D62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95BEE-69A2-4C84-B5DD-CFBD6A2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FBE09-7F33-4C85-919E-0614ABB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A6899-AB8A-462E-89B8-6CEA665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6DC04-D7A5-4E5E-9B42-93B578D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8499-820C-4614-A336-FA8EFB8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C671D-AE1F-48B8-B625-B44E234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418A7-7BC7-4EDA-888E-C1435028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4248C-7A8B-4FAB-B0E8-0DA3D28A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51C40-89FD-4C9E-9093-F4BA42A4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55AF0-240A-4106-8068-A00AF78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D25D1-9A51-466F-884C-775A6E9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3CDCF-3FD4-4A85-BF33-AEF7800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A9BEA-3D6B-4B72-840E-6D4F69F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3B747-B0E2-48AF-8B0C-B58141A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6DDB3-C400-4408-8FF2-C97ED9BD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313-F95D-456D-8FEC-43D471E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273A-6E5F-4244-9FDD-4BC1DE4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2D7A4-6BEB-4B39-BD5C-3FDF255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47601-D265-4AC0-BA5A-0557D15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1D988-572A-461A-9616-F97F59D0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B3125-17A3-4C67-B1A1-774188A9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69BAC-E263-4725-A489-C2AD3B2F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78655-D8D1-4612-994E-5D2FAA0E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2B7E9-39AE-48BC-AB0C-619844B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555ED-2117-4F28-A2C8-25CC02F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EBB52-5E1E-47AD-827B-D1FEFAD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BBAB6-DAE7-41B2-96C5-9D38F590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99D-35EE-49E1-AB52-5C02D92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DC9BF-8641-4691-8176-82F551C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4D64A-32A9-499A-9692-FA49451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5BB34-BC7A-4DDA-9D6A-46248CD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D53A-4DFA-4915-B1B4-2F4E52D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A3363-1589-4A5B-9B15-BA4C1814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0415F-A90C-47E7-A277-DFBE9F6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0DE299-6A66-4D44-9328-CEAE2DD4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0DE2A-A236-4638-8298-A0961A55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DED2B-CA89-4FBD-83A1-832379C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75EDC-A9A9-42CA-8F03-77EEF780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BD4-BB65-4782-8388-00821CC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5A084-A741-4DF7-9304-86E3B77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FF526-E965-444B-BAB7-654C29A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180D9-755B-404A-B5A6-F9F6B3A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EECD7-7526-4EDC-96E2-99532A9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30E9B-ED01-4F72-BD74-7E787FF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B6763-805C-4980-8DD7-D3F8572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CE0A9-EC0E-43E7-A22B-A60E1B7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41D28-70CE-42E7-8E16-E9D66298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70EFA-1F5B-4577-B8CA-3060244A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21EA6-967A-4760-9F98-137DC657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7136-79E3-4D6E-8598-6033DEA3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5EF5C-FDA9-48F8-99C6-F21456B2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8A190-A85E-4A51-B2EC-190BDEA1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8BC38-1585-4BD2-A30C-2D5EED3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52EC8-8BF7-4851-8C61-5809436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67B18-9A5D-4341-84D8-9C4836A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17A3B-7D37-49F4-BD1D-B561EFB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8FCB8-A005-46C2-ABB4-0911CD0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B9568-EE31-408D-89C4-E0C60EE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8B80A-3C9F-4ADB-8CB2-146425B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C1FC2-FA2E-4011-A4BE-367885B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CF2-FBB8-4F05-91B6-6BAF4136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447A2-B418-426F-863F-EF94551E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F1AE9-BC1E-475F-8A12-A971E5D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F7D96-E92E-450E-9CDD-CF27D45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CBF73-1432-47F7-BB54-E929E5C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69001-59FD-48B8-A5AE-3231FDB1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304BF-E9D8-4F3E-9C2E-4D0FD75C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B78DD-3545-4AE2-8BBA-475B912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29F0A-AAF4-4046-B3B7-4A0BD03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03B56-EEEF-49D8-A89F-5C733C4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09EA2-0678-4965-9F92-354AA11E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C8FD-EB04-4F8D-AF47-EA97F1A2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7809A-E073-4163-B52E-B6FC80AA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C9EE7-78E4-40E5-A4AC-F3DEC4D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E9734-9A50-4802-91C9-CB76FE7E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AD2F75-D13C-47C8-9410-F705D4A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D82B3-9345-4AD2-8CE7-AAE573B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778D4-CCAD-45EA-A334-9A009CCB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DD58D5-925B-4CE2-A004-B874892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912E1-023F-4C1D-A15A-EBF5522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DC1B13-C696-4F35-84B6-C9803F78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FBD31-5BD8-4D12-B7C5-5C8B9ED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C78B-CDA9-4E60-8F96-A4E5225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493E9-6D99-4D45-B6D9-607C4C2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E7CB83-D4BD-415E-B622-0324FE8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566FFA-637B-4151-A4A8-7F84613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1034E-500F-486E-AF3A-D7A003E3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45DB4-D85F-481F-9A2C-B11DD530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A86AF-15F8-4F86-8107-4DF00965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D1DAA-1617-4727-BBE9-0E9A7CF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7E625E-70E8-4289-B959-91980E1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E5ABC-3349-4804-8D6F-AD33961B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D276A-70E0-42B1-BB21-B4DAEC2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3DFF-0645-4DB9-90F9-B1984831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81AEA4-0A58-4FB8-9DCF-C3357C6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650DB-0DE5-47DA-9A64-9BF4C2C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090568-843D-452C-9880-F6C06C8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0E20B-4A27-4F25-A7F4-AAE43609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CCD178-2166-4A58-A84B-18DE6F8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B7725-ABD5-4A99-AA33-2BBE4517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D00BD-B196-4FF3-B13C-B5A884E4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44BD-482B-443C-9BF5-86BEF50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FE90-D19E-4A40-ADB1-4E739C71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11B-8B95-4CEE-B9AB-853411B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9B8B-D780-4235-8BB7-4823CEE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3D17-71A9-4D10-A06F-005233A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DAFF-3314-4333-AC95-29CD911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0704-95BA-498F-AE15-849C692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1AA0-6090-40DC-811F-027132B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305D-D10A-47AB-A175-B4707A58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85BD-B93D-4530-96CB-E2A639A4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2C8D-002B-490B-BC21-543DCDDF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73CD-20F9-4BB3-BE14-F8E45B8B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0903-32CC-478B-91D2-BAE9CE0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4E7-DA3E-4585-9EAA-67834A5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FBCC-7A95-428B-AB7E-01623F07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708A-68D3-4217-8201-367372C4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E362-BCA9-4112-BFDA-82A5493A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F127-5772-4AAA-A52C-A5A33E0E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860B-DD31-455F-BD05-C21B09C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BFBF-17D6-44DD-A69C-0F3EE96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C0B9-1F21-4965-AD8B-1BD566A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9731-CAA2-4B99-A97F-F70321C9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015D-19A0-4665-963B-EEDF4FA7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A8E3-F88B-4B8A-8A46-109F0CC7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51F-35CE-44B4-A1D1-68B6673B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D5A7-A89D-48E8-B4A5-6FE0B2B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EEF1-D6F3-4A06-A55A-BE409B0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3C7D-322A-4B3D-AF84-FE88487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FA14-91B6-4B02-904B-8B866C7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1042-DD01-4365-9F27-F56C591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7FEA-F7B7-4DA8-BC12-C13EAF45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6D38-9BBC-4FF4-AD85-CF0BBA6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99AF6-031A-4977-AFCD-BC18E7A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B915B-8545-4479-B7C3-15583D4F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A77D-CB15-4E4D-824B-F6C77776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2CB-D742-499F-AA6B-30AEC834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8703-CB6F-44A8-8B80-5573867E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22E5-B99D-4B0E-AB43-1919D700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2B84-FE5A-4F99-A8D6-27B099E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3F98E-F0D9-4FAF-AE30-29EFF1C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578E-A296-4E9C-84E7-589D5FB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B707-1D4A-4825-8BDB-F573A03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0014B-4992-4E34-8F05-DCCABBFF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579F-2D93-4970-B249-FE5CC23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3222-30D3-46CD-8FD3-B4E49C9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3149-8E4F-4CF1-ADC3-D50C8B9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D02-1768-4A76-8F1A-212205D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F207-24EF-46D1-86A8-C0158815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5DAB5-0383-42F5-AD8A-8B72DA90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4EAC-8A4A-4E66-A843-EE68D5F7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4BF5-180C-4558-8515-9CC8262D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7750-359F-4F2E-AD70-BF93730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AAD1-683B-4B54-A0BD-6301588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89F0-31F2-4608-9D7A-CF00C17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B273-0336-4881-B56A-53DF4A6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108C-3394-40C9-A66F-788C02FC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4061-DAE0-46CA-8E24-0584B25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BDC-C2B2-4EA2-AD17-3DEC9C0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9FA8E-A4B6-45BF-AAAF-CE8FFDA1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54B0-D9F6-448A-ADBC-3A73119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F359-49E6-4F9A-8BE0-01BD40C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7F02-38F0-4BD5-BF4A-E5311480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5A49-F10D-4A9C-9B8B-B06EABED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F0B7-A1BE-419C-BB46-E1A8C08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3B7AF-4B5C-4294-B848-5DB2BE35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E9341-6812-46BB-B026-D6DF12DA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8CCE-63EF-4598-AB7C-3F0D58B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8B886-0EA3-4256-91AD-DFC7BF5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EDB-3CE0-40DE-A39F-5AF5ED7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9D6A-F833-428C-82EE-A42526B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B0A5-6142-41C2-BE32-7EA478B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B3639-72A7-4BC8-A6AB-5FC0E8D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3864-6619-429C-85D3-6EB7CF3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9C799-ACED-4DE3-B4CF-9663EBD4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C8B4-47E5-4F50-8EAA-0F4A6226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6DAF-C782-4374-A31D-0F9E50DB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184E9-CF6E-4D69-BD8B-0BA675F8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9CE9E-419C-45C6-86DA-AD69146D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7E92B-BEA9-4175-B6AE-EDA6323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4AE2-B454-4B3D-84F8-CDE3F0DF2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DD1-3755-4314-98A3-B2BF572F4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D2E-95B3-4FC3-AE54-6CCAC1D85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CB48-911D-4537-BFC4-B8E20E27E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C3FE-2BC5-49F4-ACE7-C6E8DFB61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0940-211D-40FD-8966-DC948C1A2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176-CE8F-4E48-99DF-9F3C0509C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D1A-7AF1-4287-A4EA-9F22278809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C06-76FD-4ED7-A342-C41D089155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E32-7D07-4911-A23C-0EA90671C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9AA-5FD6-4174-B290-852D4C762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C73-A5BD-4744-99C7-F0D7A335B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B00-57DC-4411-8F3F-33C590FC4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F931-EB5D-4573-96A0-82F958B40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677-8708-47E3-9D93-01FBD7707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66E-5734-490C-BB30-40B28C388D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B8C8-4D58-4339-B5E5-7E911AD90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DDC6-29BF-47AB-8EE7-58192BDAC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8213-FF29-4B6D-B6D3-69DC21B4D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D768-BB4A-4227-B1B0-F4DA4FE8E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9789-D7BC-43CE-86CE-33D0C1388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3DB-3550-4666-A174-037308B8D0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B4F-EEFA-4F2D-8AF1-7A2DC1233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E4B-2514-4692-A03A-EA3BACAF2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563-F106-4FA1-8870-AE2BFB0639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124-9B1C-4093-906C-A7A310A98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FB1-F6CE-49E6-9CB2-AEF459B71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FBB-9CE6-4BAC-BE43-6FC064D84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8F9-448A-4F7F-AE46-CEAA5F187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65CF-1DB5-4780-9001-E3D2351DA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CA9-B530-4305-8FDC-7CFF48F2D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151-1C78-438C-B99C-46C3559B3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0A8B-258E-4217-9CE3-15989C0F1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077-967D-4A38-8D43-1CA8DDDC79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9EE-4AAA-4098-B749-4F4474B7A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7F8-CB1A-4FFA-BBCE-4DE818DF1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8EF6-0554-451C-91EE-A9CC0D734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E611-717A-4929-ABBA-C6C4D6E6D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12E-5CB5-4891-80AE-B9AA4B61D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0ED-451A-4CC6-A2D3-2C553B928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F104-559E-4DC6-A0D8-7FE88A5EB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8D1-F77F-4959-A006-F9FEAE8DA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563400" y="2500200"/>
            <a:ext cx="828864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57320" y="1071720"/>
            <a:ext cx="6819840" cy="5428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20680" y="1751040"/>
            <a:ext cx="8275680" cy="36291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229248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314172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3716280"/>
            <a:ext cx="358560" cy="290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4273560"/>
            <a:ext cx="3585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06280" y="752400"/>
            <a:ext cx="6981840" cy="41814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206280" y="4986360"/>
            <a:ext cx="6096240" cy="1390680"/>
          </a:xfrm>
          <a:prstGeom prst="rect">
            <a:avLst/>
          </a:prstGeom>
          <a:ln w="0">
            <a:noFill/>
          </a:ln>
        </p:spPr>
      </p:pic>
      <p:pic>
        <p:nvPicPr>
          <p:cNvPr id="1116" name="图片 3" descr=""/>
          <p:cNvPicPr/>
          <p:nvPr/>
        </p:nvPicPr>
        <p:blipFill>
          <a:blip r:embed="rId3"/>
          <a:stretch/>
        </p:blipFill>
        <p:spPr>
          <a:xfrm>
            <a:off x="6451560" y="4842000"/>
            <a:ext cx="2543040" cy="1771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403280" y="377028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476360" y="4336920"/>
            <a:ext cx="115272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4284720" y="4330800"/>
            <a:ext cx="71892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1547640" y="493236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1528920" y="5497560"/>
            <a:ext cx="153036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1428840" y="6068880"/>
            <a:ext cx="153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507960" y="1943280"/>
            <a:ext cx="6848640" cy="16761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584280" y="3716280"/>
            <a:ext cx="7553160" cy="1390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2484360" y="2454120"/>
            <a:ext cx="25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1800000" cy="2379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2016000" cy="238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3895560" y="3706920"/>
            <a:ext cx="2016360" cy="2379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1042920" y="4264200"/>
            <a:ext cx="576360" cy="2379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8"/>
          <a:stretch/>
        </p:blipFill>
        <p:spPr>
          <a:xfrm>
            <a:off x="1979640" y="4273560"/>
            <a:ext cx="2160720" cy="2379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9"/>
          <a:stretch/>
        </p:blipFill>
        <p:spPr>
          <a:xfrm>
            <a:off x="971640" y="4835520"/>
            <a:ext cx="29527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62080" y="2016000"/>
            <a:ext cx="6351480" cy="316080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2" descr=""/>
          <p:cNvPicPr/>
          <p:nvPr/>
        </p:nvPicPr>
        <p:blipFill>
          <a:blip r:embed="rId2"/>
          <a:stretch/>
        </p:blipFill>
        <p:spPr>
          <a:xfrm>
            <a:off x="6740640" y="2809800"/>
            <a:ext cx="2162160" cy="22287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2195640" y="2540160"/>
            <a:ext cx="2376360" cy="290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826920" y="3097080"/>
            <a:ext cx="649440" cy="290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2556000" y="3094200"/>
            <a:ext cx="649080" cy="290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1835280" y="366408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4749840" y="3664080"/>
            <a:ext cx="1368360" cy="290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1258920" y="4264200"/>
            <a:ext cx="936720" cy="2095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3132000" y="4273560"/>
            <a:ext cx="1295640" cy="209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0"/>
          <a:stretch/>
        </p:blipFill>
        <p:spPr>
          <a:xfrm>
            <a:off x="1403280" y="4844880"/>
            <a:ext cx="936720" cy="2098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1"/>
          <a:stretch/>
        </p:blipFill>
        <p:spPr>
          <a:xfrm>
            <a:off x="3419640" y="4797360"/>
            <a:ext cx="93636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6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